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9C2-AA11-461A-BFEB-137729DB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E01-FFEF-4DCC-B8CC-10F5B69E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3CD-CA12-48C9-B301-F85EE79D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176-7C38-4856-B474-1A2AE17D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522-41A9-4B8F-B99F-A666E78A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BF0-057E-456E-8850-78397477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361-5D89-41B1-8105-EDD304C3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34A-2602-4BCB-B28C-B3C40F0A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C46-B972-45A8-A939-644B24BF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A17-907D-422F-9D48-210835A3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B20-2704-4414-80B5-BFBF9C1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A92-917C-488E-9BDE-4C3733A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D63F-24C6-4F4F-93A7-BDB4B12A5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Table: A Distributed Storage System for Structure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y Chang, Jeffrey Dean, Sanjay Ghemawat, Wilson C. Hsieh, Deborah A. Wallach, Mike Burrows, Tushar Chandra, Andrew Fikes, Robert E. Gruber @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 Richard Venut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is an arbitrary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data in a row is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 creation is implicit upon stor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s ordered lexico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s close together lexicographically usually on one or a small number of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iag1"/>
          <p:cNvPicPr/>
          <p:nvPr/>
        </p:nvPicPr>
        <p:blipFill>
          <a:blip r:embed="rId1"/>
          <a:stretch/>
        </p:blipFill>
        <p:spPr>
          <a:xfrm>
            <a:off x="0" y="1219320"/>
            <a:ext cx="90298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w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of short row ranges are efficient and typically require communication with a small number of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xploit this property by selecting row keys so they get good locality for data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gatech.edu, math.uga.edu, phys.gatech.edu, phys.uga.ed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du.gatech.math, edu.gatech.phys, edu.uga.math, edu.uga.p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s have two-level name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:optional_qua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of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ssociated typ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ier gives unbounde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levels of indexing,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iag1"/>
          <p:cNvPicPr/>
          <p:nvPr/>
        </p:nvPicPr>
        <p:blipFill>
          <a:blip r:embed="rId1"/>
          <a:stretch/>
        </p:blipFill>
        <p:spPr>
          <a:xfrm>
            <a:off x="114480" y="1143000"/>
            <a:ext cx="90295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tore different versions of data in a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rites default to current time, but timestamps for writes can also be set explicitly by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up 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most recent K valu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all values in timestamp range (or all values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families can be marked w/ attrib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 retain most recent K values in a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ep values until they are older than K secon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iag1"/>
          <p:cNvPicPr/>
          <p:nvPr/>
        </p:nvPicPr>
        <p:blipFill>
          <a:blip r:embed="rId1"/>
          <a:stretch/>
        </p:blipFill>
        <p:spPr>
          <a:xfrm>
            <a:off x="114480" y="1066680"/>
            <a:ext cx="90295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– Three Major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 linked into every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ster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tablets to tablet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ng addition and expiration of tablet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ing tablet-server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ablet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t servers handle read and write requests to its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tablets that have grown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data doesn’t move through master server.  Clients communicate directly with tablet servers for reads and wr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lients never communicate with the master server, leaving it lightly loaded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tables broken into tablets at row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t holds contiguous range of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 can often choose row keys to achieve loc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~100MB to 200MB of data per tab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ng machine responsible for ~100 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recov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machines each pick up 1 tablet for failed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ed load balan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tablets away from overloaded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makes load-balancing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ablets move around from server to server, given a row, how do clients find the right mach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tablet whose row range covers the target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diag2"/>
          <p:cNvPicPr/>
          <p:nvPr/>
        </p:nvPicPr>
        <p:blipFill>
          <a:blip r:embed="rId1"/>
          <a:stretch/>
        </p:blipFill>
        <p:spPr>
          <a:xfrm>
            <a:off x="1523880" y="4114800"/>
            <a:ext cx="5448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let is assigned to one tablet server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server keeps track of the set of live tablet servers and current assignments of tablets to servers.  Also keeps track of unassigned tabl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ablet is unassigned, master assigns the tablet to an tablet server with sufficient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/delete tables, column families, change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s (at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(): write cells in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Cells(): delete cells in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Row(): delete all cells in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er: read arbitrary cells in a big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read is at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strict returned rows to a particular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sk for just data from 1 row, all row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sk for all columns, just certain column families, or specific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Table is a distributed storage system for managing structure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scale to a very larg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abytes of data across thousands of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any Googl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indexing, Personalized Search, Google Earth, Google Analytics, Google Financ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high-performance solution for all of Google’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s: Locality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group multiple column families int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lit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STable is created for each locality group in each tab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regating columns families that are not typically accessed together enables more efficient r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bTable, page metadata can be in one group and contents of the page in anothe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s: 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pportunities for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values in the same row/column at different time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values in different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values across adjacent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pass custom compressions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ass: compress long common strings across a larg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pass: look for repetitions in small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emphasized, but good space reduction (10-to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s: Bloom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operation has to read from disk when desired SSTable isn’t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number of accesses by specifying a Bloom fil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 ask if an SSTable might contain data for a specified row/column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mount of memory for Bloom filters drastically reduces the number of disk seeks for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mplies that most lookups for non-existent rows or columns do not need to touch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xkcd.com/327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ploits_of_a_mom"/>
          <p:cNvPicPr/>
          <p:nvPr/>
        </p:nvPicPr>
        <p:blipFill>
          <a:blip r:embed="rId1"/>
          <a:stretch/>
        </p:blipFill>
        <p:spPr>
          <a:xfrm>
            <a:off x="457200" y="1600200"/>
            <a:ext cx="84567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(semi-)structured data at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, crawl metadata, links, anchors, pagerank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user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eference settings, recent queries/search result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lo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entities (shops, restaurants, etc.), roads, satellite image data, user annotatio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ons of URLs, many versions/page (~20K/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dreds of millions of users, thousands or q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TB+ of satellite ima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t just use commercial D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is too large for most commercial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it weren’t, cost would be very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internally means system can be applied across many projects for low incremen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storage optimizations help performance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do when running on top of a databas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synchronous processes to be continuously updating different piec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access to most current data at an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read/write rates (millions of ops per seco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scans over all or interesting sub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joins of large one-to-one and one-to-many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want to examine data chang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ontents of a web page over multiple craw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multi-leve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-tolerant, per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sands of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abytes of in-memo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abyte of disk-bas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s of reads/writes per second, efficient s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man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s can be added/removed dyna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s adjust to load im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blo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 File System (GFS): Raw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r: schedules jobs onto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service: distributed lock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Reduce: simplified large-scale 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Table uses of building blo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: stores persistent data (SSTable file format for storage of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r: schedules jobs involved in BigTable s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service: master election, location bootstr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Reduce: often used to read/write BigT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Dat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gTable is a sparse, distributed persistent multi-dimensional sorte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ow, column, timestamp) -&gt; cell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atch for most Googl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iag1"/>
          <p:cNvPicPr/>
          <p:nvPr/>
        </p:nvPicPr>
        <p:blipFill>
          <a:blip r:embed="rId1"/>
          <a:stretch/>
        </p:blipFill>
        <p:spPr>
          <a:xfrm>
            <a:off x="0" y="2971800"/>
            <a:ext cx="90298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Tab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keep copy of a large collection of web pages and rela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RLs as row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aspects of web page as column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contents of web pages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umn under the timestamps when they were fet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iag1"/>
          <p:cNvPicPr/>
          <p:nvPr/>
        </p:nvPicPr>
        <p:blipFill>
          <a:blip r:embed="rId1"/>
          <a:stretch/>
        </p:blipFill>
        <p:spPr>
          <a:xfrm>
            <a:off x="0" y="1295280"/>
            <a:ext cx="90298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1:23:34Z</dcterms:created>
  <dc:creator>Richard Venutolo</dc:creator>
  <dc:description/>
  <dc:language>en-US</dc:language>
  <cp:lastModifiedBy>tanel</cp:lastModifiedBy>
  <dcterms:modified xsi:type="dcterms:W3CDTF">2009-11-11T09:56:47Z</dcterms:modified>
  <cp:revision>4</cp:revision>
  <dc:subject/>
  <dc:title>Bigtable: A Distributed Storage System for Structured Data</dc:title>
</cp:coreProperties>
</file>